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99B7-4B5D-4555-BF5B-9FFE2CC59E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BA45-55E4-48EE-8205-0166E161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2EA7-753B-44F8-BDD5-4E393EF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9942-05B8-4D80-94A4-3431AE400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7850-E514-4CF7-8D6E-8F179AB5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87FF-8625-4062-9BE0-99F5E75D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666E-40C7-4B88-9430-BE86DB8B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7899-A6B9-4A5B-AA4E-0130D137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49A0-8C6A-477D-9E1A-1A4E1EA2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4AF0-ACDA-4ED7-9932-3DE646E4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56C8-B39F-4CBE-8BB7-0B9F5AF4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345D-0B87-4818-A526-24A6FA35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267080" y="6172200"/>
            <a:ext cx="56700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720" y="632412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9B57-D881-4CF5-B019-C6843B34A2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95680" y="6095880"/>
            <a:ext cx="567000" cy="57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9080" y="696600"/>
            <a:ext cx="780876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I2C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Opencollecto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nter Integrated Circuit Bu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protocol was developed by Philips and is a registered trad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ometimes referred to as a “2 wire interf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ypically used to connect low speed peripherals to embedded systems, motherboard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B70E-6179-47A0-A008-3703EE546C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T16 has a dedicated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it sends and receiv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the master or sl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speed is 100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7480" y="259236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FB6A-5168-413F-B311-E0962AC051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70320" y="1600200"/>
            <a:ext cx="42033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F281-29CB-4D58-88E0-249B7991E4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1680" y="1600200"/>
            <a:ext cx="620064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3520" y="1981080"/>
            <a:ext cx="3809880" cy="1752840"/>
            <a:chOff x="533520" y="1981080"/>
            <a:chExt cx="3809880" cy="1752840"/>
          </a:xfrm>
        </p:grpSpPr>
        <p:grpSp>
          <p:nvGrpSpPr>
            <p:cNvPr id="109" name=""/>
            <p:cNvGrpSpPr/>
            <p:nvPr/>
          </p:nvGrpSpPr>
          <p:grpSpPr>
            <a:xfrm>
              <a:off x="990720" y="2209680"/>
              <a:ext cx="3352680" cy="1524240"/>
              <a:chOff x="990720" y="2209680"/>
              <a:chExt cx="3352680" cy="1524240"/>
            </a:xfrm>
          </p:grpSpPr>
          <p:sp>
            <p:nvSpPr>
              <p:cNvPr id="110" name=""/>
              <p:cNvSpPr/>
              <p:nvPr/>
            </p:nvSpPr>
            <p:spPr>
              <a:xfrm>
                <a:off x="4114800" y="3429000"/>
                <a:ext cx="228600" cy="304920"/>
              </a:xfrm>
              <a:prstGeom prst="rect">
                <a:avLst/>
              </a:pr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990720" y="2209680"/>
                <a:ext cx="3124080" cy="13716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33520" y="1981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D30A-ECC7-4327-82B8-F4CC35E143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only uses two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A –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L – Seri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capacitance limits the speed of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mits the speed of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to below 400k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16744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1F56-4B62-4F5A-A664-A9FB38173D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Multiple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tocol allows many slaves to be connected to one master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evice has a 7-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dress is often set by tying pins on the actual device HIGH or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address values are built into the device, based on what type of device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A sample schematic with one master (a microcontroller) and three slave nodes (an ADC, a DAC, and another microcontroller) with pull-up resistors R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523880"/>
            <a:ext cx="5867640" cy="20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0755-DB04-4C7D-9D5F-ABD31FF1B6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Transfer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I, 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master supplies the clock on the SC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DA line can only change when the SCL line i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CL line is LOW the next bit of data is clocked onto the SD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one for each bit in turn starting with the M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46EA-EBB5-45E2-9487-C280F33B67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Start and Stop bit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ignal the start of data transmission the SDA line changes from HIGH to LOW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art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dicate the end of data transmission the SDA line brought from LOW to HIGH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op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t from the Start and Stop condition, the SDA line must never change state while SCL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9E22-D252-46B0-B756-FF197C0AC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Acknowledgemen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more complex than 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ter device must be able to check whether a device is present and resp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byte of data has been transmitted , the receiving device pulls the SDA line LOW for one bi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acknowledg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st can now check if the slave received its data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4B9F-A3EA-4A55-98C9-BE6D5F0764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Timing Diagram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03400" y="1600200"/>
            <a:ext cx="51372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CA54-1326-4289-9205-FA5FC4B03B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Physical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have either open collector or open drain outputs on their SDA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ne is pulled up by an external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 devices can not damage each other by asserting different logic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A simplified schematic of the externalized (open) collector of an integrated circuit (IC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5485-B7E8-45FD-BD1B-068CFD123E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Devic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Cxx EEPROM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4 indicates that is an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 and the xx represents th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5948-547A-4C5D-81FD-41E3D76040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9:44:31Z</dcterms:created>
  <dc:creator>Robyn Verrinder</dc:creator>
  <dc:description/>
  <dc:language>en-US</dc:language>
  <cp:lastModifiedBy>Robyn Verrinder</cp:lastModifiedBy>
  <dcterms:modified xsi:type="dcterms:W3CDTF">2008-05-07T12:15:14Z</dcterms:modified>
  <cp:revision>16</cp:revision>
  <dc:subject/>
  <dc:title>Inter Integrated Circuit Bus</dc:title>
</cp:coreProperties>
</file>